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EB88-099D-486B-8FCA-2A481839C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5C85-7545-41E5-8C85-4A72E59B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4C5F-9185-4AD5-9DBA-7511F2B3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2043-A554-49C5-8651-71ACDEE59F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CF5-8646-4EC8-96F2-2B457CF27F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52E-34D1-4F3D-9194-81CFD31A7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8EF-68BF-40CD-A766-B0F206828B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CCA-DD3B-4AC0-B6D7-C447E87CE7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7BB-F52D-4FC8-ADFB-188650D10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3BD-ACE6-4D9F-8331-2D8B7DE21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901-AFB5-44B1-95D3-303BF5E69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B23F-55A9-4F87-9275-A3213E9E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94D-AE67-4D26-B01D-853A34927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872-5783-45E0-A590-52F66E7C6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324-89D6-4798-9E10-FAB687428A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04F-2BA5-4527-9C6B-B21A98557D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99D-E78D-44DF-A4E0-CE3C8DD3E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3474-278B-4551-A534-1E0C200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2376-8EC9-4C92-8647-41055EB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9C38-BDB8-40A1-A642-878CB66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9B4A-2BD9-454B-9BC7-1CDED7CA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9EFF-6F27-46DB-B78B-9484D9E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0CF2-EA7F-4124-8428-5E6BFD8F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22E4-786D-403C-A123-52C808F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CA790A2-FEAD-425C-81A5-EEAB3C0169C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971DFA7-8082-4034-8F0E-A61EB8DBD3E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General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Interfaces per loc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Encod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or Fib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A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D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Convergence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RG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NA \ DNA PRO) (MOCA, HPNA, etc. Agilent does not have a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, HDMI, S-Video (No Agilent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here to Test???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28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 “Pain Points!” is where you should start……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vider has several different teams that are responsible for different areas in the Network.  You must determine what is the “Pain Point!” for the team you are working 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a SHO Engineer who is responsible for the Encoder banks ‘cares’ about the STB performance but do they loose sleep over it?  N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each member on the team what the pain point is, they will all most likely state the same issue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rs, Encoders, Encoder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Egress of the 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ff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Just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EG-TS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P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rvers (MST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 Ser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al of Stuf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P Sequenc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erformance it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J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 Sp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ce Point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 server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(Transport Network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 for the co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gress and Egress of the Transport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ols to 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M equi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\DS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ing cor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is setup correc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ct ones a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is setup cor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 Tu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y hauling the traffic back to a NO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Encoders, Encoders, Encoder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Egress of the 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ff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Just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EG-TS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P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A servers (MST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 Ser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al of Stuf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P Sequenc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erformance it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J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Ad Sp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Ingress\Egress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lice Point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 server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 of the Ad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 of Internet\Vo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est points: B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Ingress\Egress of the VOD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 of Service\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“Pain Points”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ise (Last Mile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On the 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R Jitter (Lip-Sy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P QOS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st points: In-line between the RG and the S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p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p Overrun and Under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E (consistent ZAP responses) Not Q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to Test???? </a:t>
            </a:r>
            <a:br>
              <a:rPr sz="32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Interfaces per location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6800" y="1266480"/>
            <a:ext cx="42670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Encoder ASI (No Agilent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Encod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Copper or Fib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A server Ether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Copper or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\Post Core Ethernet \ So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/1000mb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6520" y="1266480"/>
            <a:ext cx="42688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Networ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Ethernet \ Son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mb OC-3 Fib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NA \ DNA 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ig is under Development (Not a LIM PC Based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MPLS\GRE\VLAN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4:42:10Z</dcterms:created>
  <dc:creator>Michael Stevens</dc:creator>
  <dc:description/>
  <dc:language>en-US</dc:language>
  <cp:lastModifiedBy>Michael Stevens</cp:lastModifiedBy>
  <dcterms:modified xsi:type="dcterms:W3CDTF">2007-06-07T13:38:32Z</dcterms:modified>
  <cp:revision>12</cp:revision>
  <dc:subject/>
  <dc:title>Slide 1</dc:title>
</cp:coreProperties>
</file>